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32E-967E-4659-8E0E-85DAD310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91FC-F210-493D-A02F-1D50BB88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7BD76-695E-42E4-8989-9BC3625C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92EF2-4A33-4921-919D-42B01846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38604-5C33-4B36-A2E0-938C4071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716B3-82D7-4A4A-B433-E096C458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672E0-6CD0-45B1-9D49-1B0CEAC6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B1D59-F2A7-4AC4-AB02-E6D10106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2EE2E-A2FD-41A3-AAFC-6BCEFDA6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79093-360E-4A75-B327-27E367BF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83EB8-9A09-47E9-8CEB-9AF98B94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183C4-797A-44DB-A324-D524B96A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5A1E-FE9B-426B-8475-C7848301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64E71-6E7A-4F70-91C7-44C0782C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FEBEF-CF63-4079-A577-8A9DC28B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9B5C1-D6ED-485D-846A-48A0971D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E2A8D-BFE0-4D24-BB7E-5EB2FB65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CF443-6853-4949-9794-A717C487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CFBB4-D421-41AF-9A63-95949782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658A7-921D-492A-B8C5-378A557A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D4596-21C3-4F5A-9F36-A597B9C8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1C283-4B8B-4AD7-88DE-81F58803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388B1-D6BA-48D9-B269-C505B632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75C9-5F80-4A69-89AB-21DAC68F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1ACDF-6A48-4886-9F42-F1EE669C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94B0-879B-409E-9F31-21B75284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E2B9-0CB7-4C7D-8619-53EB5AEB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2D4C-24BE-4813-A2B0-3C59F704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A3BD-8B65-47EC-86F8-81EBE0D3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2010-3A98-4A70-8BC8-C99AA28A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7347-5F63-4DE8-B88B-FF564E1F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6484-6F2B-4668-AF18-C0528BD9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840-FEC9-47D9-A548-8389F891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CDC1-4420-4E62-B527-19DBB3C4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7959-7836-400D-949F-AC427455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BF3A-9FBA-4BAD-9C35-F3FB23FD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3FB9-C1D8-4971-8032-BCAA581A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48A9-9135-4FCB-99F8-4E7DF1A8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133C3-D25F-4277-87E1-FBDD7322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68D9D-3475-4E9C-B04F-EE8E411E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1ADE1-DF20-4E95-BD2B-F8B66D6F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BB22F-B106-4FC0-8D9D-B2E0653D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F040F-B7F2-45B4-89A2-E02F51BA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FB8-5AF0-457F-972D-A063103C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8FBBF-F07A-4F51-AF31-6E6C4B4F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3DB26-AFA6-4B1A-B2F1-E29AE769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CEE4A-FE7F-47EC-92BF-6FB38D98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996D7-4F9E-49D2-BC17-D724BF78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E4F74-88AA-4B06-B25B-822A0B7F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D16A3-5544-4E60-981D-BBEC5D11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425A0-5109-4B4F-A8A7-14FC41E1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38D7E-6883-4AD3-8455-86521AC7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0A5A7-F859-46A7-B242-2B9E95A1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9A37B-9AE3-4C2A-8EF9-273EF329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4F75-4DD1-4207-813F-37BF7F70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EDADF-43C8-4D16-B020-D2483302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3E5DD-F7D2-418E-9D10-A9238033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738A0-FCDF-459A-A4C2-0EC62AE0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FC0D7-711E-4177-9BEB-7B719523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112AC-C682-4713-AE34-7D922726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ED1AC-3E94-4EBF-8AB6-842DE1F8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D4D97-74CD-4726-9F9F-F8E1E04C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96E8C-4586-4684-8F8B-5E393AC2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8F770-0341-44C8-8EE9-6AE61C82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36FE4-ED98-402B-9F37-069AAF6A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0D17-D16B-49CD-802E-914FB86E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3AE47-0529-4ACC-83BF-C3AE2829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E95CA-B75A-41E0-BA3F-13E002EB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FC669-4FE4-4B19-836E-7A752F86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8F7BA-1B35-4E62-AC54-34100CF9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4324A-FAD0-4AE8-903D-911CFE05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3EFF3-72F0-46F6-87A6-E4399B37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F03DB-D50A-4547-B588-E33AC53D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DF715-455A-4480-8AA6-34FB9AFB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8FA84-B680-4504-B99D-84CB5848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2CAFB-EA79-47F4-AC97-B2479970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9E7-5F27-4154-83C5-9BC367E1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CDEB2-CA9B-4F36-8BB2-5E128DDF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509EA-84CF-4C53-9902-C95A3DFE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4B637-A9ED-44A6-AA06-3C864184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88A1F-02B0-4D77-B8FB-58D52FDD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601EE-0798-43FA-BB6E-58058F10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36EC3-9D4E-47CD-8D7D-01FBFCC0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41662-3FBA-42B6-BF49-AA662B4B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DB72F-DF03-46BA-8B31-5E601717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4F633-EFB0-43DD-BD91-131EBCF8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9059C-0652-4319-9A58-565B3EA7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A15F-BD0B-4B88-9F9B-68D82E59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33E99-3BB8-4EDF-AC52-83C93C54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2AD2C-345A-4F9B-B19F-46E06EDF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84679-BBDE-4FB9-8B84-BE63C349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A6B94-5F3B-4247-9881-4316F220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F5F82-1EC9-497C-BF99-9A84A63C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CC477-545B-467D-8AD8-81179E65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9DCB6-BC41-4220-8D7B-B934CDEF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11281-B01A-4581-B078-29C288E6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7396C-1051-4612-9EC0-ABADB2FE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4F523-D73F-468A-9D61-540D43E0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6861-13B9-4D6D-B81E-80DC0FA6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FACEE-2754-47AC-8A2D-A1062E7C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52572-BA04-4530-9F07-4FAAFD38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4B151-0A79-4B5C-82CE-DA0E7F80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06B6A-585D-4A91-A63D-F1D31EDB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61E3C-95CC-4A82-B789-2FB767F7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C7FDE-97F0-4638-8D34-74FA8635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6B146-34D2-4CD3-A9BE-533787C9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924D0-42FF-47E8-9F67-358DD43E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0526E-2B46-4C90-896C-A8A5340A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E055D-3021-40A3-B752-B5463073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96B8-A1E9-49BD-8BD8-E7D9F8F4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5F132-9A75-418F-BCEB-877E7D6D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4ED5F-28A2-4625-829A-114E59A1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A5349-C422-4FD9-8112-0D590418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81296-C661-4F50-8BED-3554BA6C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DF2E1-13FD-4208-9FAF-B92CD6DE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BAD09-47E8-4A30-A341-EEF677C1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94DC5-8496-4794-9B14-83FA72B6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FDE0B-5FB1-4D4C-9F22-E35A8A25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8FDFD-1101-4DE1-97F1-78620758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8B1A9-98AF-4473-B51F-039C9684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12ED-013A-4E0E-8FAC-761A58AFD0E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BC2F-5525-4202-AC82-0253498468D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0044-9050-4E11-AF0E-BC4DD12208F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EEBE-1751-4AF2-84DB-975946D0534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C5D8-27CC-42FE-9434-47461D5BC2F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75EF-B296-4931-AA93-2671701F355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76DD-E85C-4239-9D76-7ED6031A5B7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4908-7F8C-4C6A-AF2D-5A8BD35C0E7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B717-1439-4AE6-92CF-FB83308256F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E820-8A05-4A24-A417-2A28C9664DC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2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요즘 어떻게 지내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르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께서도 안녕하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할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께서도 안녕하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남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도 잘 있습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재호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량위링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지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재호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부모님께서도 안녕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량위링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니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요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hese days, nowadays, recent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지내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o get along (do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부모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떻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how; interrogative adver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떻게 합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이것을 어떻게 만들었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사람은 어떻게 생겼습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	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께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; honorific expression of 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선생님께서 이야기하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할아버지께서 오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아버지께서 신문을 읽으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lso, too; a subject/object post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저도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좋습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사람도 압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음식도 맛있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Particle? Or Postpos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맑은 고딕"/>
              </a:rPr>
              <a:t>Make nouns/prenouns into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ubject/object/possesive for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quivalent array ( ~ and ~, ~ or ~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djective or adverbe phras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맑은 고딕"/>
              </a:rPr>
              <a:t>Postpositions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생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씨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r. (Ms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rofess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르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tea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있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e, exist, pres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남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husba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친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rie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augh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학생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장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resid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부장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irector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어머니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부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if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il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동생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youn ger br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,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장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진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나카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일러 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,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지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마다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부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최 교수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임지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김윤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09-24T14:40:06Z</dcterms:modified>
  <cp:revision>70</cp:revision>
  <dc:subject/>
  <dc:title>KOREAN LANGUAGE</dc:title>
</cp:coreProperties>
</file>